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18.jpeg" ContentType="image/jpeg"/>
  <Override PartName="/ppt/media/image16.jpeg" ContentType="image/jpeg"/>
  <Override PartName="/ppt/media/image15.png" ContentType="image/png"/>
  <Override PartName="/ppt/media/image14.png" ContentType="image/png"/>
  <Override PartName="/ppt/media/image10.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8.jpeg" ContentType="image/jpeg"/>
  <Override PartName="/ppt/media/image13.jpeg" ContentType="image/jpe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907588" cy="6858000"/>
  <p:notesSz cx="9717088"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F3FB36-5CE4-45C6-9AB6-0ADAD5872C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CFD1E-F216-4299-B5E9-25B034454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5DCAF-351D-40B2-82D2-51E8F52B3C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6D5355-0821-46B3-88B9-FE97BF2266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70EDA-A35B-4416-92A4-6B43B0F41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68F85-CD1F-4DB3-85D3-A57738761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7CEBC-2BF8-4C37-AB7E-7DE72E424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0A331-584D-4B86-AF61-5F05EBDE9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42A60-D2E3-40B1-8DEE-BA521128D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AE8E8-B8AC-46D5-99D8-4B9C4681F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45AA3-2FBB-4878-B447-68984C75D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81ACF-911A-4D26-8531-3FA684B0A3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D286F-7A60-4986-A8C2-1E44742A4D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065240" y="260280"/>
            <a:ext cx="7920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PASSPORT TO THE WORLD</a:t>
            </a:r>
            <a:endParaRPr b="0" lang="en-US" sz="4000" spc="-1" strike="noStrike">
              <a:solidFill>
                <a:srgbClr val="000000"/>
              </a:solidFill>
              <a:latin typeface="Arial"/>
            </a:endParaRPr>
          </a:p>
        </p:txBody>
      </p:sp>
      <p:graphicFrame>
        <p:nvGraphicFramePr>
          <p:cNvPr id="42" name=""/>
          <p:cNvGraphicFramePr/>
          <p:nvPr/>
        </p:nvGraphicFramePr>
        <p:xfrm>
          <a:off x="3008160" y="1197000"/>
          <a:ext cx="4002120" cy="5229360"/>
        </p:xfrm>
        <a:graphic>
          <a:graphicData uri="http://schemas.openxmlformats.org/presentationml/2006/ole">
            <p:oleObj r:id="rId2" spid="">
              <p:embed/>
              <p:pic>
                <p:nvPicPr>
                  <p:cNvPr id="43" name="" descr=""/>
                  <p:cNvPicPr/>
                  <p:nvPr/>
                </p:nvPicPr>
                <p:blipFill>
                  <a:blip r:embed="rId3"/>
                  <a:stretch/>
                </p:blipFill>
                <p:spPr>
                  <a:xfrm>
                    <a:off x="3008160" y="1197000"/>
                    <a:ext cx="4002120" cy="522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76840" y="187200"/>
            <a:ext cx="325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ERSONAL DETAILS</a:t>
            </a:r>
            <a:endParaRPr b="0" lang="en-US" sz="2400" spc="-1" strike="noStrike">
              <a:solidFill>
                <a:srgbClr val="000000"/>
              </a:solidFill>
              <a:latin typeface="Arial"/>
            </a:endParaRPr>
          </a:p>
        </p:txBody>
      </p:sp>
      <p:sp>
        <p:nvSpPr>
          <p:cNvPr id="45" name=""/>
          <p:cNvSpPr/>
          <p:nvPr/>
        </p:nvSpPr>
        <p:spPr>
          <a:xfrm>
            <a:off x="344520" y="4292640"/>
            <a:ext cx="3095640" cy="2454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 of Birt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ity……………………</a:t>
            </a:r>
            <a:endParaRPr b="0" lang="en-US" sz="1800" spc="-1" strike="noStrike">
              <a:solidFill>
                <a:srgbClr val="000000"/>
              </a:solidFill>
              <a:latin typeface="Arial"/>
            </a:endParaRPr>
          </a:p>
        </p:txBody>
      </p:sp>
      <p:sp>
        <p:nvSpPr>
          <p:cNvPr id="46" name=""/>
          <p:cNvSpPr/>
          <p:nvPr/>
        </p:nvSpPr>
        <p:spPr>
          <a:xfrm>
            <a:off x="344520" y="836640"/>
            <a:ext cx="3095640" cy="3288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4160880" y="189000"/>
            <a:ext cx="475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ces Around The World You Have Visited.</a:t>
            </a:r>
            <a:endParaRPr b="0" lang="en-US" sz="1800" spc="-1" strike="noStrike">
              <a:solidFill>
                <a:srgbClr val="000000"/>
              </a:solidFill>
              <a:latin typeface="Arial"/>
            </a:endParaRPr>
          </a:p>
        </p:txBody>
      </p:sp>
      <p:pic>
        <p:nvPicPr>
          <p:cNvPr id="48" name="" descr=""/>
          <p:cNvPicPr/>
          <p:nvPr/>
        </p:nvPicPr>
        <p:blipFill>
          <a:blip r:embed="rId1"/>
          <a:stretch/>
        </p:blipFill>
        <p:spPr>
          <a:xfrm>
            <a:off x="3584520" y="1268280"/>
            <a:ext cx="6113520" cy="3961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2865600" y="2060640"/>
            <a:ext cx="41050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    </a:t>
            </a:r>
            <a:r>
              <a:rPr b="1" lang="en-US" sz="5400" spc="-1" strike="noStrike" u="sng">
                <a:solidFill>
                  <a:srgbClr val="000000"/>
                </a:solidFill>
                <a:uFillTx/>
                <a:latin typeface="Arial"/>
              </a:rPr>
              <a:t>SPAIN</a:t>
            </a:r>
            <a:endParaRPr b="0" lang="en-US" sz="5400" spc="-1" strike="noStrike">
              <a:solidFill>
                <a:srgbClr val="000000"/>
              </a:solidFill>
              <a:latin typeface="Arial"/>
            </a:endParaRPr>
          </a:p>
        </p:txBody>
      </p:sp>
      <p:sp>
        <p:nvSpPr>
          <p:cNvPr id="50" name=""/>
          <p:cNvSpPr/>
          <p:nvPr/>
        </p:nvSpPr>
        <p:spPr>
          <a:xfrm>
            <a:off x="488880" y="476280"/>
            <a:ext cx="3527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 descr=""/>
          <p:cNvPicPr/>
          <p:nvPr/>
        </p:nvPicPr>
        <p:blipFill>
          <a:blip r:embed="rId2"/>
          <a:stretch/>
        </p:blipFill>
        <p:spPr>
          <a:xfrm>
            <a:off x="4089240" y="4508640"/>
            <a:ext cx="2016360" cy="1989000"/>
          </a:xfrm>
          <a:prstGeom prst="rect">
            <a:avLst/>
          </a:prstGeom>
          <a:ln w="9360">
            <a:solidFill>
              <a:srgbClr val="000000"/>
            </a:solidFill>
            <a:miter/>
          </a:ln>
        </p:spPr>
      </p:pic>
      <p:sp>
        <p:nvSpPr>
          <p:cNvPr id="52" name=""/>
          <p:cNvSpPr/>
          <p:nvPr/>
        </p:nvSpPr>
        <p:spPr>
          <a:xfrm>
            <a:off x="7040520" y="4581360"/>
            <a:ext cx="2000160" cy="1928880"/>
          </a:xfrm>
          <a:prstGeom prst="rect">
            <a:avLst/>
          </a:prstGeom>
          <a:solidFill>
            <a:srgbClr val="ffffff">
              <a:alpha val="47000"/>
            </a:srgbClr>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FACT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ent: Europ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pital: Madri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pulation:39 Mill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cy: Euro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nguage: Spanish</a:t>
            </a:r>
            <a:endParaRPr b="0" lang="en-US" sz="1400" spc="-1" strike="noStrike">
              <a:solidFill>
                <a:srgbClr val="000000"/>
              </a:solidFill>
              <a:latin typeface="Arial"/>
            </a:endParaRPr>
          </a:p>
        </p:txBody>
      </p:sp>
      <p:sp>
        <p:nvSpPr>
          <p:cNvPr id="53" name=""/>
          <p:cNvSpPr/>
          <p:nvPr/>
        </p:nvSpPr>
        <p:spPr>
          <a:xfrm>
            <a:off x="4160880" y="407664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AP OF SPAIN</a:t>
            </a:r>
            <a:endParaRPr b="0" lang="en-US" sz="1800" spc="-1" strike="noStrike">
              <a:solidFill>
                <a:srgbClr val="000000"/>
              </a:solidFill>
              <a:latin typeface="Arial"/>
            </a:endParaRPr>
          </a:p>
        </p:txBody>
      </p:sp>
      <p:sp>
        <p:nvSpPr>
          <p:cNvPr id="54" name=""/>
          <p:cNvSpPr/>
          <p:nvPr/>
        </p:nvSpPr>
        <p:spPr>
          <a:xfrm>
            <a:off x="6176880" y="333360"/>
            <a:ext cx="3170160" cy="3706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176880" y="476280"/>
            <a:ext cx="3456000" cy="3505320"/>
          </a:xfrm>
          <a:prstGeom prst="rect">
            <a:avLst/>
          </a:prstGeom>
          <a:solidFill>
            <a:srgbClr val="ffffff">
              <a:alpha val="49000"/>
            </a:srgbClr>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PANISH WEATHER</a:t>
            </a:r>
            <a:endParaRPr b="0" lang="en-US" sz="1800" spc="-1" strike="noStrike">
              <a:solidFill>
                <a:srgbClr val="000000"/>
              </a:solidFill>
              <a:latin typeface="Arial"/>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ain is a very big country so the weather largely depends on where in the country you are.</a:t>
            </a:r>
            <a:endParaRPr b="0" lang="en-US" sz="1000" spc="-1" strike="noStrike">
              <a:solidFill>
                <a:srgbClr val="000000"/>
              </a:solidFill>
              <a:latin typeface="Arial"/>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orthern coast has cold winters and warm, humid summers. Misty rain can cover the area for days on end so the region is very green. Unfortunately, this area is also often covered with a grey smog because of pollution form the coal and iron centres in the area.</a:t>
            </a:r>
            <a:endParaRPr b="0" lang="en-US" sz="1000" spc="-1" strike="noStrike">
              <a:solidFill>
                <a:srgbClr val="000000"/>
              </a:solidFill>
              <a:latin typeface="Arial"/>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ain’s most extreme climate is in Madrid as it is located in the centre. The city has very hot summers with temperatures reaching 40 C and very cold winters where temperatures drop to -20 C.</a:t>
            </a:r>
            <a:endParaRPr b="0" lang="en-US" sz="1000" spc="-1" strike="noStrike">
              <a:solidFill>
                <a:srgbClr val="000000"/>
              </a:solidFill>
              <a:latin typeface="Arial"/>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editerranean coast of Spain, which is in the south, is what is imagined to be the typical Spanish climate- HOT! The summers are high temperatures (40 C) and the winters are mild where temperatures only fall to 8 C. In the Canaries rain only falls an average of 200-300mm a year in most plac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6" name=""/>
          <p:cNvSpPr/>
          <p:nvPr/>
        </p:nvSpPr>
        <p:spPr>
          <a:xfrm>
            <a:off x="200160" y="260280"/>
            <a:ext cx="4968720" cy="1471680"/>
          </a:xfrm>
          <a:prstGeom prst="rect">
            <a:avLst/>
          </a:prstGeom>
          <a:solidFill>
            <a:srgbClr val="ffffff">
              <a:alpha val="48000"/>
            </a:srgbClr>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WHAT IS TOURISM?</a:t>
            </a: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ourist is a temporary visitor to an area. It may be for one day or a few weeks. The tourist may be going on holiday, a day trip or simply visiting a museum.</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ism is the industry that provides services for these tourists. Such as hotels in foreign countries or ice cream stands at Alton Towers.</a:t>
            </a:r>
            <a:endParaRPr b="0" lang="en-US" sz="1200" spc="-1" strike="noStrike">
              <a:solidFill>
                <a:srgbClr val="000000"/>
              </a:solidFill>
              <a:latin typeface="Arial"/>
            </a:endParaRPr>
          </a:p>
        </p:txBody>
      </p:sp>
      <p:sp>
        <p:nvSpPr>
          <p:cNvPr id="57" name=""/>
          <p:cNvSpPr/>
          <p:nvPr/>
        </p:nvSpPr>
        <p:spPr>
          <a:xfrm>
            <a:off x="272880" y="1916280"/>
            <a:ext cx="3095640" cy="4187520"/>
          </a:xfrm>
          <a:prstGeom prst="rect">
            <a:avLst/>
          </a:prstGeom>
          <a:solidFill>
            <a:srgbClr val="ffffff">
              <a:alpha val="47000"/>
            </a:srgbClr>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OURISM IN SPAIN</a:t>
            </a:r>
            <a:endParaRPr b="0" lang="en-US" sz="1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the Spanish climate meaning that summer sun is almost guaranteed, Spain has become one of the most popular places in Europe to go for holidays. More tourists visit Spain each year than anywhere else in the world and so in summer it can get rather crowde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art from the glorious weather, people from England are attracted to Spain because of the close distance. Spain is in Europe, not too far away from England, so people can have lovely long white beaches and sunshine without travelling across the globe. This means that Spain is one of the cheapest places to travel abroad making it more attractive to tourist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urism brings lots of money for Spain as a result of tourists spending holiday savings in the country. This is good for the Spanish economy. Also, as there are about 52 million visitors a year, lots of jobs are created to provide services for them such as hotels, shops and restaurants. Even new towns have been built for tourists. This is another benefit of tourism as there is more employmen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3369960" y="189000"/>
            <a:ext cx="3038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0000"/>
                </a:solidFill>
                <a:uFillTx/>
                <a:latin typeface="Arial"/>
              </a:rPr>
              <a:t>CANADA</a:t>
            </a:r>
            <a:endParaRPr b="0" lang="en-US" sz="5400" spc="-1" strike="noStrike">
              <a:solidFill>
                <a:srgbClr val="000000"/>
              </a:solidFill>
              <a:latin typeface="Arial"/>
            </a:endParaRPr>
          </a:p>
        </p:txBody>
      </p:sp>
      <p:pic>
        <p:nvPicPr>
          <p:cNvPr id="59" name="" descr=""/>
          <p:cNvPicPr/>
          <p:nvPr/>
        </p:nvPicPr>
        <p:blipFill>
          <a:blip r:embed="rId2"/>
          <a:stretch/>
        </p:blipFill>
        <p:spPr>
          <a:xfrm>
            <a:off x="344520" y="620640"/>
            <a:ext cx="2305080" cy="1584360"/>
          </a:xfrm>
          <a:prstGeom prst="rect">
            <a:avLst/>
          </a:prstGeom>
          <a:ln w="9360">
            <a:solidFill>
              <a:srgbClr val="000000"/>
            </a:solidFill>
            <a:miter/>
          </a:ln>
        </p:spPr>
      </p:pic>
      <p:sp>
        <p:nvSpPr>
          <p:cNvPr id="60" name=""/>
          <p:cNvSpPr/>
          <p:nvPr/>
        </p:nvSpPr>
        <p:spPr>
          <a:xfrm>
            <a:off x="415800" y="189000"/>
            <a:ext cx="23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AP OF CANADA</a:t>
            </a:r>
            <a:endParaRPr b="0" lang="en-US" sz="1800" spc="-1" strike="noStrike">
              <a:solidFill>
                <a:srgbClr val="000000"/>
              </a:solidFill>
              <a:latin typeface="Arial"/>
            </a:endParaRPr>
          </a:p>
        </p:txBody>
      </p:sp>
      <p:sp>
        <p:nvSpPr>
          <p:cNvPr id="61" name=""/>
          <p:cNvSpPr/>
          <p:nvPr/>
        </p:nvSpPr>
        <p:spPr>
          <a:xfrm>
            <a:off x="344520" y="2421000"/>
            <a:ext cx="2232000" cy="197460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FACTS</a:t>
            </a:r>
            <a:endParaRPr b="0" lang="en-US" sz="1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inent: North Americ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ital: Ottawa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pulation: 30 Millio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rrency: Canadian Dollar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nguage: Englis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
          <p:cNvSpPr/>
          <p:nvPr/>
        </p:nvSpPr>
        <p:spPr>
          <a:xfrm>
            <a:off x="2865600" y="1197000"/>
            <a:ext cx="6624360" cy="2662200"/>
          </a:xfrm>
          <a:prstGeom prst="rect">
            <a:avLst/>
          </a:prstGeom>
          <a:solidFill>
            <a:srgbClr val="ffffff">
              <a:alpha val="47000"/>
            </a:srgbClr>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OURISM IN CANADA</a:t>
            </a: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 is a country full of physical beauty and offers more to tourists than we can imagine. It has been ranked the best country in the world in which to live for eight years running and people are attracted from all over the worl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Canada's greatest attractions, The Rockies are without a doubt the most spectacular mountain range in the country. Set in the middle of the Rockies are the communities of Banff and Lake Louise, each offers visitors a chance to experience the Rocky Mountains with the 'big city' comforts.  With endless outdoor activities this region will keep every visitor busy.  A trip to Canada cannot be complete without travelling through the Rocky Mountain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sands of tourists flock to Canada every year to participate in outdoor pursuits within the Rockies such as skiing and snow boarding. This is a massive industry in Canada and brings lots of money into the country. </a:t>
            </a:r>
            <a:endParaRPr b="0" lang="en-US" sz="1200" spc="-1" strike="noStrike">
              <a:solidFill>
                <a:srgbClr val="000000"/>
              </a:solidFill>
              <a:latin typeface="Arial"/>
            </a:endParaRPr>
          </a:p>
        </p:txBody>
      </p:sp>
      <p:sp>
        <p:nvSpPr>
          <p:cNvPr id="63" name=""/>
          <p:cNvSpPr/>
          <p:nvPr/>
        </p:nvSpPr>
        <p:spPr>
          <a:xfrm>
            <a:off x="631800" y="4653000"/>
            <a:ext cx="6050160" cy="20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ANADIAN WEATHER</a:t>
            </a: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imate in Canada ranges from extreme cold characteristics of the Arctic regions to the moderate temperatures of warmer, southerly places in the world. The Canadian climate is marked by wide regional variations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ng the western coast, which is under the influence of warm sea and winds there are mild summers and winters, and high levels of rain. In the Cordilleran region the higher western slopes of, particularly the mountains called the Rockies, have very high amounts of rain and snow, but the eastern slopes and the central region of Canada are extremely dry.</a:t>
            </a:r>
            <a:endParaRPr b="0" lang="en-US" sz="1200" spc="-1" strike="noStrike">
              <a:solidFill>
                <a:srgbClr val="000000"/>
              </a:solidFill>
              <a:latin typeface="Arial"/>
            </a:endParaRPr>
          </a:p>
        </p:txBody>
      </p:sp>
      <p:pic>
        <p:nvPicPr>
          <p:cNvPr id="64" name="" descr=""/>
          <p:cNvPicPr/>
          <p:nvPr/>
        </p:nvPicPr>
        <p:blipFill>
          <a:blip r:embed="rId3"/>
          <a:stretch/>
        </p:blipFill>
        <p:spPr>
          <a:xfrm>
            <a:off x="6969240" y="4653000"/>
            <a:ext cx="2592360" cy="1839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3584520" y="333360"/>
            <a:ext cx="244944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ITALY</a:t>
            </a:r>
            <a:endParaRPr b="0" lang="en-US" sz="5400" spc="-1" strike="noStrike">
              <a:solidFill>
                <a:srgbClr val="000000"/>
              </a:solidFill>
              <a:latin typeface="Arial"/>
            </a:endParaRPr>
          </a:p>
        </p:txBody>
      </p:sp>
      <p:pic>
        <p:nvPicPr>
          <p:cNvPr id="66" name="" descr=""/>
          <p:cNvPicPr/>
          <p:nvPr/>
        </p:nvPicPr>
        <p:blipFill>
          <a:blip r:embed="rId2"/>
          <a:stretch/>
        </p:blipFill>
        <p:spPr>
          <a:xfrm>
            <a:off x="344520" y="4724280"/>
            <a:ext cx="2016000" cy="1876680"/>
          </a:xfrm>
          <a:prstGeom prst="rect">
            <a:avLst/>
          </a:prstGeom>
          <a:ln w="9360">
            <a:solidFill>
              <a:srgbClr val="000000"/>
            </a:solidFill>
            <a:miter/>
          </a:ln>
        </p:spPr>
      </p:pic>
      <p:sp>
        <p:nvSpPr>
          <p:cNvPr id="67" name=""/>
          <p:cNvSpPr/>
          <p:nvPr/>
        </p:nvSpPr>
        <p:spPr>
          <a:xfrm>
            <a:off x="2505240" y="4869000"/>
            <a:ext cx="2160360" cy="1525680"/>
          </a:xfrm>
          <a:prstGeom prst="rect">
            <a:avLst/>
          </a:prstGeom>
          <a:solidFill>
            <a:srgbClr val="ffffff">
              <a:alpha val="49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FACTS</a:t>
            </a:r>
            <a:endParaRPr b="0" lang="en-US" sz="1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inent: Europ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pital: Rom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ulation: 57 Million</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rrency: Euro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guage: Italian</a:t>
            </a:r>
            <a:endParaRPr b="0" lang="en-US" sz="1000" spc="-1" strike="noStrike">
              <a:solidFill>
                <a:srgbClr val="000000"/>
              </a:solidFill>
              <a:latin typeface="Arial"/>
            </a:endParaRPr>
          </a:p>
        </p:txBody>
      </p:sp>
      <p:sp>
        <p:nvSpPr>
          <p:cNvPr id="68" name=""/>
          <p:cNvSpPr/>
          <p:nvPr/>
        </p:nvSpPr>
        <p:spPr>
          <a:xfrm>
            <a:off x="3800520" y="1413000"/>
            <a:ext cx="5761080" cy="2664720"/>
          </a:xfrm>
          <a:prstGeom prst="rect">
            <a:avLst/>
          </a:prstGeom>
          <a:solidFill>
            <a:srgbClr val="ffffff">
              <a:alpha val="49000"/>
            </a:srgbClr>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TOURISM IN ITALY</a:t>
            </a:r>
            <a:endParaRPr b="0" lang="en-US" sz="1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urists are attracted to Italy, like Spain, for the weather. However, many tourists also travel to Italy for a different reason – to sight see. Although the Roman Empire is long gone, many of the famous buildings they constructed are still standing such as the Colosseum. These famous\buildings display much European history and are a huge tourist attraction.</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aly is also famous for its cuisine. One of the great imports by immigrant Italians to their new countries was their cooking, which is now famous world over. Its is varies, tasty and healthy, often made from simple ingredients that are easy to find. The Italian cuisine is now recognised as one of the worlds finest and tourists travel to visit some of the fine restaurant.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pera was ‘born’ in Italy in the 17</a:t>
            </a:r>
            <a:r>
              <a:rPr b="0" lang="en-GB" sz="1000" spc="-1" strike="noStrike" baseline="30000">
                <a:solidFill>
                  <a:srgbClr val="000000"/>
                </a:solidFill>
                <a:latin typeface="Arial"/>
              </a:rPr>
              <a:t>th</a:t>
            </a:r>
            <a:r>
              <a:rPr b="0" lang="en-GB" sz="1000" spc="-1" strike="noStrike">
                <a:solidFill>
                  <a:srgbClr val="000000"/>
                </a:solidFill>
                <a:latin typeface="Arial"/>
              </a:rPr>
              <a:t> Century. There are many very famous Italian opera singers and Opera houses which again attract more tourists to Italy.</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other tourist attraction in Italy is the Designer shops, fro which people travel alround the world to visit. Designers such as Giorgio Armani and Gianni Versace display their collections in very high profile shops.</a:t>
            </a:r>
            <a:endParaRPr b="0" lang="en-US" sz="1000" spc="-1" strike="noStrike">
              <a:solidFill>
                <a:srgbClr val="000000"/>
              </a:solidFill>
              <a:latin typeface="Arial"/>
            </a:endParaRPr>
          </a:p>
        </p:txBody>
      </p:sp>
      <p:sp>
        <p:nvSpPr>
          <p:cNvPr id="69" name=""/>
          <p:cNvSpPr/>
          <p:nvPr/>
        </p:nvSpPr>
        <p:spPr>
          <a:xfrm>
            <a:off x="4952880" y="4724280"/>
            <a:ext cx="4608720" cy="1558800"/>
          </a:xfrm>
          <a:prstGeom prst="rect">
            <a:avLst/>
          </a:prstGeom>
          <a:solidFill>
            <a:srgbClr val="ffffff">
              <a:alpha val="51000"/>
            </a:srgbClr>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ITALIAN WEATHER</a:t>
            </a: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alys weather is warm, temperate and Mediterranean in the south during the summer and the winters are mild. The north has hot dry summers and cold winters. In general, average summer temperatures range from 20-24 C and average winter temperatures range from 0-5 C. Average rain fall over the year varies from below 75mm to above 150mm.</a:t>
            </a:r>
            <a:endParaRPr b="0" lang="en-US" sz="1200" spc="-1" strike="noStrike">
              <a:solidFill>
                <a:srgbClr val="000000"/>
              </a:solidFill>
              <a:latin typeface="Arial"/>
            </a:endParaRPr>
          </a:p>
        </p:txBody>
      </p:sp>
      <p:sp>
        <p:nvSpPr>
          <p:cNvPr id="70" name=""/>
          <p:cNvSpPr/>
          <p:nvPr/>
        </p:nvSpPr>
        <p:spPr>
          <a:xfrm>
            <a:off x="344520" y="429264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AP OF ITALY</a:t>
            </a:r>
            <a:endParaRPr b="0" lang="en-US" sz="1800" spc="-1" strike="noStrike">
              <a:solidFill>
                <a:srgbClr val="000000"/>
              </a:solidFill>
              <a:latin typeface="Arial"/>
            </a:endParaRPr>
          </a:p>
        </p:txBody>
      </p:sp>
      <p:sp>
        <p:nvSpPr>
          <p:cNvPr id="71" name=""/>
          <p:cNvSpPr/>
          <p:nvPr/>
        </p:nvSpPr>
        <p:spPr>
          <a:xfrm>
            <a:off x="344520" y="260280"/>
            <a:ext cx="2879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415800" y="333360"/>
            <a:ext cx="2952720" cy="3651840"/>
          </a:xfrm>
          <a:prstGeom prst="rect">
            <a:avLst/>
          </a:prstGeom>
          <a:solidFill>
            <a:srgbClr val="ffffff">
              <a:alpha val="42000"/>
            </a:srgbClr>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FAMOUS BUILDINGS AND CITIES</a:t>
            </a:r>
            <a:endParaRPr b="0" lang="en-US" sz="1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FAMOUS CITIES</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ome</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enice</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ienna</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lorence</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Genoa</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ilan</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FAMOUS BUILDING &amp; MONUMENTS</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eaning Tower of Pisa.</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istine Chapel</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losseum</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Vatician City</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anthe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3584520" y="260280"/>
            <a:ext cx="3672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EGYPT</a:t>
            </a:r>
            <a:endParaRPr b="0" lang="en-US" sz="5400" spc="-1" strike="noStrike">
              <a:solidFill>
                <a:srgbClr val="000000"/>
              </a:solidFill>
              <a:latin typeface="Arial"/>
            </a:endParaRPr>
          </a:p>
        </p:txBody>
      </p:sp>
      <p:pic>
        <p:nvPicPr>
          <p:cNvPr id="74" name="" descr=""/>
          <p:cNvPicPr/>
          <p:nvPr/>
        </p:nvPicPr>
        <p:blipFill>
          <a:blip r:embed="rId2"/>
          <a:stretch/>
        </p:blipFill>
        <p:spPr>
          <a:xfrm>
            <a:off x="7689960" y="981000"/>
            <a:ext cx="1738080" cy="1876680"/>
          </a:xfrm>
          <a:prstGeom prst="rect">
            <a:avLst/>
          </a:prstGeom>
          <a:ln w="9360">
            <a:solidFill>
              <a:srgbClr val="000000"/>
            </a:solidFill>
            <a:miter/>
          </a:ln>
        </p:spPr>
      </p:pic>
      <p:sp>
        <p:nvSpPr>
          <p:cNvPr id="75" name=""/>
          <p:cNvSpPr/>
          <p:nvPr/>
        </p:nvSpPr>
        <p:spPr>
          <a:xfrm>
            <a:off x="7616880" y="4046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MAP OF EGYPT</a:t>
            </a:r>
            <a:endParaRPr b="0" lang="en-US" sz="1800" spc="-1" strike="noStrike">
              <a:solidFill>
                <a:srgbClr val="000000"/>
              </a:solidFill>
              <a:latin typeface="Arial"/>
            </a:endParaRPr>
          </a:p>
        </p:txBody>
      </p:sp>
      <p:sp>
        <p:nvSpPr>
          <p:cNvPr id="76" name=""/>
          <p:cNvSpPr/>
          <p:nvPr/>
        </p:nvSpPr>
        <p:spPr>
          <a:xfrm>
            <a:off x="7113600" y="3213000"/>
            <a:ext cx="2592360" cy="2314440"/>
          </a:xfrm>
          <a:prstGeom prst="rect">
            <a:avLst/>
          </a:prstGeom>
          <a:solidFill>
            <a:srgbClr val="ffffff">
              <a:alpha val="70000"/>
            </a:srgbClr>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ACTS</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inent: Afric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Cair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pulation: 52 Mill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cy: Egyptian Pound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nguage: Arabic</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
          <p:cNvSpPr/>
          <p:nvPr/>
        </p:nvSpPr>
        <p:spPr>
          <a:xfrm>
            <a:off x="415800" y="1773360"/>
            <a:ext cx="6553440" cy="4875840"/>
          </a:xfrm>
          <a:prstGeom prst="rect">
            <a:avLst/>
          </a:prstGeom>
          <a:solidFill>
            <a:srgbClr val="ffffff">
              <a:alpha val="92000"/>
            </a:srgbClr>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THE RIVER NILE</a:t>
            </a:r>
            <a:endParaRPr b="0" lang="en-US" sz="1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JOURNEY OF THE NIL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Nile River runs from South Egypt to north Egypt and is the longest river in the world. It flows for 6, 670km which is the same distance as lies between London and New York!! The source of the Nile is south Egypt, near the centre of Africa, in the Ruwenzori Mountains. These mountains reach heights of 5, 200m and from here streams run, delivering water to Lake Victoria, the lake that is the famous source of the Nile. The upper Nile, Known as the White Nile, runs through a very wet area, with an average rainfall of 1250mm rainfall a year. As a result the vegetation is very lush and tropical and there is plenty of wildlife. The river here is at its widest and is similar to a swamp. In fact, it is the biggest area of swamp in the world stretching about 700km. The Nile channel meanders through the swamp area and is eventually joined by another tributary which feeds the main river called the Blue Nile. The Blue Nile is much shorter than the White Nile but is more important as it carries more water. Just before the Blue and White Nile meet they flow side by side for a few miles. The differences in colour can be clearly seen as the White Nile is browny-grey from the silt it has picked up along the way, whereas the Blue Nile is clearer and looks greeny blue. Other tributaries that also supply the Nile with water are the Sobat and the Atbara. The Nile then flows into the biggest man made lake in the world, Lake Nasser, which is more than 500 km long. North of Lake Nasser the Nile flows much slower through a desert area. As the area is so dry the river provides much needed irrigation and is therefore heavily relied upon for activities such as farming. The last stage of the Niles journey is the delta. A delta is a place where the river runs into the sea. Lots of sediment is dropped and the water tries to find a way through, the result looks a bit like a fan shap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Nile provides an extremely fertile plain which is suitable for growing crops. As a result of this, the valley and delta of the Nile are the most highly populated areas of Egypt. The fresh water and the excellent conditions for growing crops make it a very popular area and have shaped the countries history. As the area is so dry, without the Nile providing water for the crops, there would be drought. Over thousands of years, the Egyptians have formed very complex irrigation systems to make sure all the crops are watered and as much land can be used to grow crops as possibl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other importance of the Nile is transport. Egypt is a huge country and due to a poor road network system the Nile is relied upon to transport things around the country.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78" name="" descr=""/>
          <p:cNvPicPr/>
          <p:nvPr/>
        </p:nvPicPr>
        <p:blipFill>
          <a:blip r:embed="rId3"/>
          <a:stretch/>
        </p:blipFill>
        <p:spPr>
          <a:xfrm>
            <a:off x="849240" y="404640"/>
            <a:ext cx="1765440" cy="120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2936880" y="0"/>
            <a:ext cx="35290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0000"/>
                </a:solidFill>
                <a:uFillTx/>
                <a:latin typeface="Arial"/>
              </a:rPr>
              <a:t>ENGLAND</a:t>
            </a:r>
            <a:endParaRPr b="0" lang="en-US" sz="5400" spc="-1" strike="noStrike">
              <a:solidFill>
                <a:srgbClr val="000000"/>
              </a:solidFill>
              <a:latin typeface="Arial"/>
            </a:endParaRPr>
          </a:p>
        </p:txBody>
      </p:sp>
      <p:pic>
        <p:nvPicPr>
          <p:cNvPr id="80" name="" descr=""/>
          <p:cNvPicPr/>
          <p:nvPr/>
        </p:nvPicPr>
        <p:blipFill>
          <a:blip r:embed="rId2"/>
          <a:stretch/>
        </p:blipFill>
        <p:spPr>
          <a:xfrm>
            <a:off x="415800" y="4076640"/>
            <a:ext cx="1820880" cy="2592360"/>
          </a:xfrm>
          <a:prstGeom prst="rect">
            <a:avLst/>
          </a:prstGeom>
          <a:ln w="9360">
            <a:solidFill>
              <a:srgbClr val="000000"/>
            </a:solidFill>
            <a:miter/>
          </a:ln>
        </p:spPr>
      </p:pic>
      <p:sp>
        <p:nvSpPr>
          <p:cNvPr id="81" name=""/>
          <p:cNvSpPr/>
          <p:nvPr/>
        </p:nvSpPr>
        <p:spPr>
          <a:xfrm>
            <a:off x="2289240" y="4508640"/>
            <a:ext cx="2303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973080" y="56088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3" name=""/>
          <p:cNvSpPr/>
          <p:nvPr/>
        </p:nvSpPr>
        <p:spPr>
          <a:xfrm>
            <a:off x="2720880" y="4365720"/>
            <a:ext cx="2521080" cy="1990080"/>
          </a:xfrm>
          <a:prstGeom prst="rect">
            <a:avLst/>
          </a:prstGeom>
          <a:solidFill>
            <a:srgbClr val="ffffff">
              <a:alpha val="49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FACTS</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inent: Europ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Lond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pulation: 61 Mill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cy: Pounds Sterling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nguage: English</a:t>
            </a:r>
            <a:endParaRPr b="0" lang="en-US" sz="1400" spc="-1" strike="noStrike">
              <a:solidFill>
                <a:srgbClr val="000000"/>
              </a:solidFill>
              <a:latin typeface="Arial"/>
            </a:endParaRPr>
          </a:p>
        </p:txBody>
      </p:sp>
      <p:sp>
        <p:nvSpPr>
          <p:cNvPr id="84" name=""/>
          <p:cNvSpPr/>
          <p:nvPr/>
        </p:nvSpPr>
        <p:spPr>
          <a:xfrm>
            <a:off x="200160" y="3716280"/>
            <a:ext cx="236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AP OF ENGLAND</a:t>
            </a:r>
            <a:endParaRPr b="0" lang="en-US" sz="1800" spc="-1" strike="noStrike">
              <a:solidFill>
                <a:srgbClr val="000000"/>
              </a:solidFill>
              <a:latin typeface="Arial"/>
            </a:endParaRPr>
          </a:p>
        </p:txBody>
      </p:sp>
      <p:sp>
        <p:nvSpPr>
          <p:cNvPr id="85" name=""/>
          <p:cNvSpPr/>
          <p:nvPr/>
        </p:nvSpPr>
        <p:spPr>
          <a:xfrm>
            <a:off x="272880" y="981000"/>
            <a:ext cx="53280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252360" y="825480"/>
            <a:ext cx="18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344520" y="765000"/>
            <a:ext cx="201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344520" y="907920"/>
            <a:ext cx="5184720" cy="2695680"/>
          </a:xfrm>
          <a:prstGeom prst="rect">
            <a:avLst/>
          </a:prstGeom>
          <a:solidFill>
            <a:srgbClr val="ffffff">
              <a:alpha val="49000"/>
            </a:srgbClr>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VILLAGES</a:t>
            </a:r>
            <a:endParaRPr b="0" lang="en-US" sz="1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llages and cities have very different characteristic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Characteristics of a villag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n                                 Low population</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000" spc="-1" strike="noStrike">
                <a:solidFill>
                  <a:srgbClr val="000000"/>
                </a:solidFill>
                <a:latin typeface="Arial"/>
              </a:rPr>
              <a:t>Cottages</a:t>
            </a:r>
            <a:r>
              <a:rPr b="0" lang="en-US" sz="1800" spc="-1" strike="noStrike">
                <a:solidFill>
                  <a:srgbClr val="000000"/>
                </a:solidFill>
                <a:latin typeface="Arial"/>
              </a:rPr>
              <a:t>                                                          </a:t>
            </a:r>
            <a:r>
              <a:rPr b="0" lang="en-US" sz="1000" spc="-1" strike="noStrike">
                <a:solidFill>
                  <a:srgbClr val="000000"/>
                </a:solidFill>
                <a:latin typeface="Arial"/>
              </a:rPr>
              <a:t>Peaceful</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reen                                                                                                 Small</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resh Air</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ow Traffic</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se of Community</a:t>
            </a:r>
            <a:r>
              <a:rPr b="0" lang="en-US" sz="1800" spc="-1" strike="noStrike">
                <a:solidFill>
                  <a:srgbClr val="000000"/>
                </a:solidFill>
                <a:latin typeface="Arial"/>
              </a:rPr>
              <a:t>                  </a:t>
            </a:r>
            <a:r>
              <a:rPr b="0" lang="en-US" sz="1000" spc="-1" strike="noStrike">
                <a:solidFill>
                  <a:srgbClr val="000000"/>
                </a:solidFill>
                <a:latin typeface="Arial"/>
              </a:rPr>
              <a:t>Parks</a:t>
            </a:r>
            <a:endParaRPr b="0" lang="en-US" sz="1000" spc="-1" strike="noStrike">
              <a:solidFill>
                <a:srgbClr val="000000"/>
              </a:solidFill>
              <a:latin typeface="Arial"/>
            </a:endParaRPr>
          </a:p>
        </p:txBody>
      </p:sp>
      <p:sp>
        <p:nvSpPr>
          <p:cNvPr id="89" name=""/>
          <p:cNvSpPr/>
          <p:nvPr/>
        </p:nvSpPr>
        <p:spPr>
          <a:xfrm>
            <a:off x="5745240" y="981000"/>
            <a:ext cx="3887640" cy="4336920"/>
          </a:xfrm>
          <a:prstGeom prst="rect">
            <a:avLst/>
          </a:prstGeom>
          <a:solidFill>
            <a:srgbClr val="ffffff">
              <a:alpha val="43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TOWNS &amp; CIT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ine out of ten people in England  live in cities and so therefore much less of the population live in villag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igh Popul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 Buildings                                                   Noise</a:t>
            </a:r>
            <a:endParaRPr b="0" lang="en-US" sz="1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bbish                                                                   Pollution</a:t>
            </a:r>
            <a:endParaRPr b="0" lang="en-US" sz="1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000" spc="-1" strike="noStrike">
                <a:solidFill>
                  <a:srgbClr val="000000"/>
                </a:solidFill>
                <a:latin typeface="Arial"/>
              </a:rPr>
              <a:t>Crowde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st Road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000" spc="-1" strike="noStrike">
                <a:solidFill>
                  <a:srgbClr val="000000"/>
                </a:solidFill>
                <a:latin typeface="Arial"/>
              </a:rPr>
              <a:t>Busy</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torways                           Traffic</a:t>
            </a:r>
            <a:endParaRPr b="0" lang="en-US" sz="1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000" spc="-1" strike="noStrike">
                <a:solidFill>
                  <a:srgbClr val="000000"/>
                </a:solidFill>
                <a:latin typeface="Arial"/>
              </a:rPr>
              <a:t>Massive area                      High Numbers of services</a:t>
            </a:r>
            <a:endParaRPr b="0" lang="en-US" sz="1000" spc="-1" strike="noStrike">
              <a:solidFill>
                <a:srgbClr val="000000"/>
              </a:solidFill>
              <a:latin typeface="Arial"/>
            </a:endParaRPr>
          </a:p>
        </p:txBody>
      </p:sp>
      <p:sp>
        <p:nvSpPr>
          <p:cNvPr id="90" name=""/>
          <p:cNvSpPr/>
          <p:nvPr/>
        </p:nvSpPr>
        <p:spPr>
          <a:xfrm flipH="1" flipV="1">
            <a:off x="5384520" y="1413000"/>
            <a:ext cx="43164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1" name=""/>
          <p:cNvSpPr/>
          <p:nvPr/>
        </p:nvSpPr>
        <p:spPr>
          <a:xfrm>
            <a:off x="2000160" y="2205000"/>
            <a:ext cx="1224000" cy="246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Village</a:t>
            </a:r>
            <a:endParaRPr b="0" lang="en-US" sz="1000" spc="-1" strike="noStrike">
              <a:solidFill>
                <a:srgbClr val="000000"/>
              </a:solidFill>
              <a:latin typeface="Arial"/>
            </a:endParaRPr>
          </a:p>
        </p:txBody>
      </p:sp>
      <p:sp>
        <p:nvSpPr>
          <p:cNvPr id="92" name=""/>
          <p:cNvSpPr/>
          <p:nvPr/>
        </p:nvSpPr>
        <p:spPr>
          <a:xfrm flipV="1">
            <a:off x="2936880" y="1844280"/>
            <a:ext cx="144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3224160" y="2276640"/>
            <a:ext cx="144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224160" y="2421000"/>
            <a:ext cx="136836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2936880" y="2492280"/>
            <a:ext cx="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H="1">
            <a:off x="1281240" y="2492280"/>
            <a:ext cx="100800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H="1">
            <a:off x="1352160" y="2421000"/>
            <a:ext cx="6476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a:off x="1136160" y="2205000"/>
            <a:ext cx="86364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9" name=""/>
          <p:cNvSpPr/>
          <p:nvPr/>
        </p:nvSpPr>
        <p:spPr>
          <a:xfrm flipH="1">
            <a:off x="1712880" y="2492280"/>
            <a:ext cx="71928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flipV="1">
            <a:off x="1999800" y="1916280"/>
            <a:ext cx="2890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081240" y="2492280"/>
            <a:ext cx="93528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969240" y="3068640"/>
            <a:ext cx="151272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ties</a:t>
            </a:r>
            <a:endParaRPr b="0" lang="en-US" sz="1000" spc="-1" strike="noStrike">
              <a:solidFill>
                <a:srgbClr val="000000"/>
              </a:solidFill>
              <a:latin typeface="Arial"/>
            </a:endParaRPr>
          </a:p>
        </p:txBody>
      </p:sp>
      <p:sp>
        <p:nvSpPr>
          <p:cNvPr id="103" name=""/>
          <p:cNvSpPr/>
          <p:nvPr/>
        </p:nvSpPr>
        <p:spPr>
          <a:xfrm flipV="1">
            <a:off x="7616880" y="1844640"/>
            <a:ext cx="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V="1">
            <a:off x="8048520" y="2276640"/>
            <a:ext cx="50508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V="1">
            <a:off x="8481960" y="2923920"/>
            <a:ext cx="14292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8481960" y="3429000"/>
            <a:ext cx="216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616880" y="3500280"/>
            <a:ext cx="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8337600" y="3500280"/>
            <a:ext cx="503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8048520" y="3500280"/>
            <a:ext cx="505080" cy="17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7040520" y="3500280"/>
            <a:ext cx="217440" cy="17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a:off x="6465960" y="3500280"/>
            <a:ext cx="57456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a:off x="6537240" y="3429000"/>
            <a:ext cx="43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6321600" y="2852640"/>
            <a:ext cx="576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flipV="1">
            <a:off x="6608880" y="2276640"/>
            <a:ext cx="79200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2649600" y="4292640"/>
            <a:ext cx="2448000" cy="2314440"/>
          </a:xfrm>
          <a:prstGeom prst="rect">
            <a:avLst/>
          </a:prstGeom>
          <a:solidFill>
            <a:srgbClr val="ffffff">
              <a:alpha val="49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ACTS</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inent: Asi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New Delh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pulation: 844 Mill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cy: Rupe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nguage: Hindi</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
          <p:cNvSpPr/>
          <p:nvPr/>
        </p:nvSpPr>
        <p:spPr>
          <a:xfrm>
            <a:off x="2649600" y="333360"/>
            <a:ext cx="3816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INDIA</a:t>
            </a:r>
            <a:endParaRPr b="0" lang="en-US" sz="5400" spc="-1" strike="noStrike">
              <a:solidFill>
                <a:srgbClr val="000000"/>
              </a:solidFill>
              <a:latin typeface="Arial"/>
            </a:endParaRPr>
          </a:p>
        </p:txBody>
      </p:sp>
      <p:sp>
        <p:nvSpPr>
          <p:cNvPr id="117" name=""/>
          <p:cNvSpPr/>
          <p:nvPr/>
        </p:nvSpPr>
        <p:spPr>
          <a:xfrm>
            <a:off x="0" y="4005360"/>
            <a:ext cx="23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AP OF INDIA</a:t>
            </a:r>
            <a:endParaRPr b="0" lang="en-US" sz="1800" spc="-1" strike="noStrike">
              <a:solidFill>
                <a:srgbClr val="000000"/>
              </a:solidFill>
              <a:latin typeface="Arial"/>
            </a:endParaRPr>
          </a:p>
        </p:txBody>
      </p:sp>
      <p:sp>
        <p:nvSpPr>
          <p:cNvPr id="118" name=""/>
          <p:cNvSpPr/>
          <p:nvPr/>
        </p:nvSpPr>
        <p:spPr>
          <a:xfrm>
            <a:off x="272880" y="189000"/>
            <a:ext cx="2808360" cy="1288080"/>
          </a:xfrm>
          <a:prstGeom prst="rect">
            <a:avLst/>
          </a:prstGeom>
          <a:solidFill>
            <a:srgbClr val="ffffff">
              <a:alpha val="38000"/>
            </a:srgbClr>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WHAT IS CULTURE</a:t>
            </a:r>
            <a:endParaRPr b="0" lang="en-US" sz="1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lture is the beliefs, behaviour, language and way of life of a particular group of people at a particular tim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lture includes: Customs, Ceremonies, Works of Art, Technology and Traditions.</a:t>
            </a:r>
            <a:endParaRPr b="0" lang="en-US" sz="1000" spc="-1" strike="noStrike">
              <a:solidFill>
                <a:srgbClr val="000000"/>
              </a:solidFill>
              <a:latin typeface="Arial"/>
            </a:endParaRPr>
          </a:p>
        </p:txBody>
      </p:sp>
      <p:sp>
        <p:nvSpPr>
          <p:cNvPr id="119" name=""/>
          <p:cNvSpPr/>
          <p:nvPr/>
        </p:nvSpPr>
        <p:spPr>
          <a:xfrm>
            <a:off x="415800" y="1628640"/>
            <a:ext cx="5042160" cy="2140200"/>
          </a:xfrm>
          <a:prstGeom prst="rect">
            <a:avLst/>
          </a:prstGeom>
          <a:solidFill>
            <a:srgbClr val="ffffff">
              <a:alpha val="38000"/>
            </a:srgbClr>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DAILY LIFE</a:t>
            </a: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dian culture is very different to that of the British and for this reason they have a very different everyday life to us. India still faces many problems from when it became independent such as poverty, low life expectancy, disease, famine, and little industry. Although the country has come on in leaps and bounds there great poverty remains and people still die from diseases that can be prevented. Western visitors, like ourselves, often find it hard to adjust to the sights of the beggers on the streets and the hustle and bustle.</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Education has improved greatly. There are state run and private schools and universities and the government provide free education up to the age of 14. Some children however do drop out to work and provide money for their families. 77 million children attend primary schools whereas only 40 million go on to secondary.</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amily life in India is very different. Many live with traditional extended families-children, parents, grandparents, aunts, uncles, cousins etc. The eldest man is considered head of the household. A wedding is a very important and colourful occasion and marriages are often arranged by the couple familes by placing an advertisement in the paper.</a:t>
            </a:r>
            <a:endParaRPr b="0" lang="en-US" sz="800" spc="-1" strike="noStrike">
              <a:solidFill>
                <a:srgbClr val="000000"/>
              </a:solidFill>
              <a:latin typeface="Arial"/>
            </a:endParaRPr>
          </a:p>
        </p:txBody>
      </p:sp>
      <p:sp>
        <p:nvSpPr>
          <p:cNvPr id="120" name=""/>
          <p:cNvSpPr/>
          <p:nvPr/>
        </p:nvSpPr>
        <p:spPr>
          <a:xfrm>
            <a:off x="5745240" y="260280"/>
            <a:ext cx="3887640" cy="5984280"/>
          </a:xfrm>
          <a:prstGeom prst="rect">
            <a:avLst/>
          </a:prstGeom>
          <a:solidFill>
            <a:srgbClr val="ffffff">
              <a:alpha val="28000"/>
            </a:srgbClr>
          </a:solidFill>
          <a:ln w="93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A DAY IN THE LIFE OF……NEISHA- GROWING UP IN AN INDIAN VILLAG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isha is eight years old and lives in a small Indian village. She Shares a house with her parents, her three sisters, two brothers and both her mother and fathers parents. Her two uncles live next door with their famili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isha gets up as the sum rises and worships with her family. They are Hindus and religion is a very important part of their lives. The children then all was and brush their teeth in a bucket in the courtyard. Twigs are used as toothbrush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xt all the children help with chores for a hour until breakfast is ready. By this time the weather is getting very hot. Neisha walks to school with her brothers and sister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chool starts with a song and a prayer in which the whole scholl are together. Neishas lessons take place in a small class romm where 50 children sit shoulder to shoulder. The morning lesson id arithmetic and in the afternoon the children play games. The winner is who runs the fastest. The children sit on the floor together to eat their lunch. After lunch there are more lessons and prays before the children go home for the day.</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isha meets her friends after school at the village pond. The swim and play together. The pond isn't just used for swimming but also for bathing, washing clothes and watering the nearby field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 the day cools down, the villages come out and talk of the day. Many play games such as chess together. When the sun sets and families retreat to their homes the last word is always said by the eldest villager.</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the evening meal the whole family gather round with Neisha and share the food from one plate. They eat lots of rice and curried vegetables.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fter dinner, Neishas grandmother reads the children a story from the Indian holy book before they put up the mosquito nets and fall asleep together.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21" name="" descr=""/>
          <p:cNvPicPr/>
          <p:nvPr/>
        </p:nvPicPr>
        <p:blipFill>
          <a:blip r:embed="rId2"/>
          <a:stretch/>
        </p:blipFill>
        <p:spPr>
          <a:xfrm>
            <a:off x="415800" y="4437000"/>
            <a:ext cx="1800360" cy="16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200160" y="189000"/>
            <a:ext cx="2808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CHINA</a:t>
            </a:r>
            <a:endParaRPr b="0" lang="en-US" sz="5400" spc="-1" strike="noStrike">
              <a:solidFill>
                <a:srgbClr val="000000"/>
              </a:solidFill>
              <a:latin typeface="Arial"/>
            </a:endParaRPr>
          </a:p>
        </p:txBody>
      </p:sp>
      <p:sp>
        <p:nvSpPr>
          <p:cNvPr id="123" name=""/>
          <p:cNvSpPr/>
          <p:nvPr/>
        </p:nvSpPr>
        <p:spPr>
          <a:xfrm>
            <a:off x="7329600" y="3860640"/>
            <a:ext cx="1944720" cy="2390040"/>
          </a:xfrm>
          <a:prstGeom prst="rect">
            <a:avLst/>
          </a:prstGeom>
          <a:solidFill>
            <a:srgbClr val="ffffff">
              <a:alpha val="37000"/>
            </a:srgbClr>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FACTS</a:t>
            </a:r>
            <a:endParaRPr b="0" lang="en-US" sz="2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inent: Asi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pital: Toky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opulation: 1.2 Billion</a:t>
            </a:r>
            <a:endParaRPr b="0" lang="en-US" sz="1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urrency: </a:t>
            </a:r>
            <a:r>
              <a:rPr b="0" lang="en-GB" sz="1200" spc="-1" strike="noStrike">
                <a:solidFill>
                  <a:srgbClr val="000000"/>
                </a:solidFill>
                <a:latin typeface="Arial"/>
              </a:rPr>
              <a:t>Renminbi </a:t>
            </a:r>
            <a:endParaRPr b="0" lang="en-US" sz="12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nguage: Chines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
          <p:cNvSpPr/>
          <p:nvPr/>
        </p:nvSpPr>
        <p:spPr>
          <a:xfrm>
            <a:off x="2792520" y="333360"/>
            <a:ext cx="7113600" cy="14036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5" name=""/>
          <p:cNvSpPr/>
          <p:nvPr/>
        </p:nvSpPr>
        <p:spPr>
          <a:xfrm>
            <a:off x="3368520" y="189000"/>
            <a:ext cx="6264360" cy="646200"/>
          </a:xfrm>
          <a:prstGeom prst="rect">
            <a:avLst/>
          </a:prstGeom>
          <a:solidFill>
            <a:srgbClr val="ffffff">
              <a:alpha val="49000"/>
            </a:srgbClr>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HINAS TERRAIN AND CLIMATE</a:t>
            </a: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a is a huge country and within it includes almost every kind of terrain and climate</a:t>
            </a:r>
            <a:endParaRPr b="0" lang="en-US" sz="1200" spc="-1" strike="noStrike">
              <a:solidFill>
                <a:srgbClr val="000000"/>
              </a:solidFill>
              <a:latin typeface="Arial"/>
            </a:endParaRPr>
          </a:p>
        </p:txBody>
      </p:sp>
      <p:sp>
        <p:nvSpPr>
          <p:cNvPr id="126" name=""/>
          <p:cNvSpPr/>
          <p:nvPr/>
        </p:nvSpPr>
        <p:spPr>
          <a:xfrm>
            <a:off x="2576520" y="476280"/>
            <a:ext cx="792000" cy="360360"/>
          </a:xfrm>
          <a:prstGeom prst="rightArrow">
            <a:avLst>
              <a:gd name="adj1" fmla="val 50000"/>
              <a:gd name="adj2" fmla="val 549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824520" y="981000"/>
            <a:ext cx="1368720" cy="50328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28" name=""/>
          <p:cNvGraphicFramePr/>
          <p:nvPr/>
        </p:nvGraphicFramePr>
        <p:xfrm>
          <a:off x="5313240" y="1557360"/>
          <a:ext cx="4457520" cy="2087280"/>
        </p:xfrm>
        <a:graphic>
          <a:graphicData uri="http://schemas.openxmlformats.org/drawingml/2006/table">
            <a:tbl>
              <a:tblPr/>
              <a:tblGrid>
                <a:gridCol w="1114200"/>
                <a:gridCol w="1114560"/>
                <a:gridCol w="1114560"/>
                <a:gridCol w="1114200"/>
              </a:tblGrid>
              <a:tr h="3330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ST CHIN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ST CHIN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TH CHIN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RTH CHINA</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542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 China is made up of may high plateaus that are broken up from mountain ranges. As the area is so high, it is very clod and bleak and therefore difficult to grow crops. It is largely uninhabited.</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the east of China there are many rivers that flow from the mountains in west China. These run into the Yellow sea and the East China Sea. The region has fertile soils and good water supplie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thern China consists of many valleys and is not at all flat. It has a warm, wet climate which means that crops grow well during most of the year. The valleys are highly populated and heavily farmed.</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rth China consists of deserts and oases. The rainfall is extremely low making large deserts. Its is very hot and the soil is mostly infertile. The population is low.</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9" name=""/>
          <p:cNvSpPr/>
          <p:nvPr/>
        </p:nvSpPr>
        <p:spPr>
          <a:xfrm>
            <a:off x="560520" y="1341360"/>
            <a:ext cx="4248000" cy="51073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0" name=""/>
          <p:cNvSpPr/>
          <p:nvPr/>
        </p:nvSpPr>
        <p:spPr>
          <a:xfrm>
            <a:off x="488880" y="1341360"/>
            <a:ext cx="4176720" cy="5312880"/>
          </a:xfrm>
          <a:prstGeom prst="rect">
            <a:avLst/>
          </a:prstGeom>
          <a:solidFill>
            <a:srgbClr val="ffffff">
              <a:alpha val="34000"/>
            </a:srgbClr>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ROWED CITIES</a:t>
            </a: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can be seen, although China is a huge country the majority of the land is not suitable, either due to the terrain or climate, for humans to build settlements. For this reason many of the cities in China, where the land is suitable for development, are extremely over crowde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recently most Chinese lived in the countryside relying on farming as an income, but over the last 50 years the urban population has really started to grow. As industry developed cities and towns expanded outwards over surrounding farmland. There are now over 40 cities in China that have a population of over 1 million, and most of these lie on the eastern side of the countr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population increased so fast, housing and services had to be quickly built in order to keep up with the demand for housing. Many building were rushed and are not 100 percent safe however the residents must stay as they have no where else to g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an over crowed city is Shanghai. It grew very fast as it is one of Chinas leading manufacturing and business centres. However, its basic services such as water, sewage and power are serving a population than is ten times bigger than for what they are designed. This means that the majority of the population does not receive clean water, enough power or have adequate sewage systems!!</a:t>
            </a:r>
            <a:endParaRPr b="0" lang="en-US" sz="1200" spc="-1" strike="noStrike">
              <a:solidFill>
                <a:srgbClr val="000000"/>
              </a:solidFill>
              <a:latin typeface="Arial"/>
            </a:endParaRPr>
          </a:p>
        </p:txBody>
      </p:sp>
      <p:sp>
        <p:nvSpPr>
          <p:cNvPr id="131" name=""/>
          <p:cNvSpPr/>
          <p:nvPr/>
        </p:nvSpPr>
        <p:spPr>
          <a:xfrm>
            <a:off x="5024520" y="3789360"/>
            <a:ext cx="1727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MAP OF CHINA</a:t>
            </a:r>
            <a:endParaRPr b="0" lang="en-US" sz="1000" spc="-1" strike="noStrike">
              <a:solidFill>
                <a:srgbClr val="000000"/>
              </a:solidFill>
              <a:latin typeface="Arial"/>
            </a:endParaRPr>
          </a:p>
        </p:txBody>
      </p:sp>
      <p:sp>
        <p:nvSpPr>
          <p:cNvPr id="132" name=""/>
          <p:cNvSpPr/>
          <p:nvPr/>
        </p:nvSpPr>
        <p:spPr>
          <a:xfrm>
            <a:off x="4737240" y="2060640"/>
            <a:ext cx="431640" cy="1224000"/>
          </a:xfrm>
          <a:prstGeom prst="lef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3" name="" descr=""/>
          <p:cNvPicPr/>
          <p:nvPr/>
        </p:nvPicPr>
        <p:blipFill>
          <a:blip r:embed="rId2"/>
          <a:stretch/>
        </p:blipFill>
        <p:spPr>
          <a:xfrm>
            <a:off x="5097600" y="4292640"/>
            <a:ext cx="1587240" cy="1460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1T11:28:31Z</dcterms:created>
  <dc:creator>Hannah</dc:creator>
  <dc:description/>
  <dc:language>en-US</dc:language>
  <cp:lastModifiedBy>Hannah</cp:lastModifiedBy>
  <dcterms:modified xsi:type="dcterms:W3CDTF">2004-04-21T21:11:12Z</dcterms:modified>
  <cp:revision>8</cp:revision>
  <dc:subject/>
  <dc:title>Slide 1</dc:title>
</cp:coreProperties>
</file>